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431-5F24-4956-8EBE-5C6FEA04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DD7-0DA4-450D-8981-0889C024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317E-F05D-47CE-B733-30D55AB2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1D2-3691-424F-AA29-4FE8D4CF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B4D-5AD1-4F0A-AE62-2A243E3D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48C-415A-42A1-9B81-B8374A04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37F-10F4-4AE6-AE5F-BAE43DA4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E53-5890-4A89-899B-575842FB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B36-E0D7-40F7-AE13-4073AB20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B46-943E-4E97-B7B1-313C76E1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440-A1CF-404E-998F-BEA70186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68BB-7E86-4F09-B3F9-59A45982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7923-9C61-4868-9C74-886EED54B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3840" cy="1946160"/>
          </a:xfrm>
          <a:prstGeom prst="rect">
            <a:avLst/>
          </a:prstGeom>
          <a:solidFill>
            <a:srgbClr val="dcc2d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ome we can eat a whole bag of sweets and not get a sugar hypo?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earning about how we keep a constant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keep our insides fairly constant from day to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earning about how we keep a constant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ort of things might change on the outside that we have to respond to on the in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get water into our bod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get water into our bod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loose water from our bod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get water into our bod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loose water from our bod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already know about how we keep a constant level of water in our blood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nt – have you ever looked at your urin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ight we need to keep a constant level of water in our b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gain water by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oose water by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o keep a constant level of water in our blood because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ontrol the amount of water we loose by changing 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ontrolled by our …….and our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salts (or ions) in your blood can als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ove in and out of cells with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we gain and loose salts and how the amount we loose is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we need to keep a constant internal 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our bodies do when we’re h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our bodies do when we are co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own words explain what our bodies do when it is hot and cold, and why they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 – include reference to hypother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sug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uch (EXCESS) Sugar -&gt; 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 -&gt; glyc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d in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3213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solidFill>
            <a:srgbClr val="dcc2d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ome we can drink pints of water without leaking?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sug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en there’s not enough glucose (sug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 -&gt; glyc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d in liver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explain that for yoursel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572000" y="3860280"/>
            <a:ext cx="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700000" y="472428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123640" y="3284640"/>
            <a:ext cx="64764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340000" y="299736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826920" y="3068280"/>
            <a:ext cx="432000" cy="28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637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QA Science page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wer questions 1 and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talk about how scienc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answer 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ow do we keep an even level of salt when one day we eat crisps and chips and the next day we don’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we keep cool when it’s h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5893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arm when it’s co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47640" y="1554120"/>
            <a:ext cx="56883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earning about how we keep a constant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earning about how we keep 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s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2637000"/>
            <a:ext cx="1942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3573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earning about how we keep a constan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2565360"/>
            <a:ext cx="180000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3573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earning about how we keep a constant internal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2637000"/>
            <a:ext cx="1656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3645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things h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0:07:56Z</dcterms:created>
  <dc:creator>sthobbsc</dc:creator>
  <dc:description/>
  <dc:language>en-US</dc:language>
  <cp:lastModifiedBy>sthobbsc</cp:lastModifiedBy>
  <dcterms:modified xsi:type="dcterms:W3CDTF">2006-09-26T09:26:40Z</dcterms:modified>
  <cp:revision>3</cp:revision>
  <dc:subject/>
  <dc:title>How come we can eat a whole bag of sweets and sugar hypo?!</dc:title>
</cp:coreProperties>
</file>